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7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E1D-3DC7-4648-A43C-2D4C2EAA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6F3-509D-4213-9108-190FDA55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C5D-524D-478D-AD83-ED0A9C98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A0B-177C-4848-B738-9ABF5ADB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8AD-DAB8-4FA3-B77B-70E5BA2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5B2-5F62-41EB-A7B6-8E02F236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32F-11DE-4359-8920-FE53DB8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50C-84A7-40A0-BCBD-56A8DD01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A40-A10F-4DB4-9FEE-04DDE80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A46-B4B1-4E08-89BC-5D152B4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82F-BFF6-47D6-9AF3-B283162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34D-047D-4940-9D90-31E1D46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FE9D-0F5C-4D8F-A0A4-B058EA367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669960" y="963720"/>
            <a:ext cx="8089920" cy="238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55640" y="549360"/>
            <a:ext cx="6912000" cy="253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ез разгона ввысь взлетает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рекозу напоминает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тправляется в поле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интокрылый ..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4206960" y="5237280"/>
            <a:ext cx="4267080" cy="133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r.zbp.ru/630x420/b8/1e9809.8fs131.49wp.rs.ij.jpg"/>
          <p:cNvPicPr/>
          <p:nvPr/>
        </p:nvPicPr>
        <p:blipFill>
          <a:blip r:embed="rId3"/>
          <a:stretch/>
        </p:blipFill>
        <p:spPr>
          <a:xfrm>
            <a:off x="684360" y="333360"/>
            <a:ext cx="7008840" cy="4672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971640" y="333360"/>
            <a:ext cx="6769080" cy="3750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 этом доме тишина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ного окон, дверь одн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ом летит под небес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а окошком вся страна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ом отправился в полет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начит это ..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2577960" y="5278320"/>
            <a:ext cx="476748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g0.liveinternet.ru/images/attach/c/7/98/385/98385306_5218894_cVOKkbM1D44.jpg"/>
          <p:cNvPicPr/>
          <p:nvPr/>
        </p:nvPicPr>
        <p:blipFill>
          <a:blip r:embed="rId3"/>
          <a:stretch/>
        </p:blipFill>
        <p:spPr>
          <a:xfrm>
            <a:off x="755640" y="189000"/>
            <a:ext cx="7980480" cy="4895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900000" y="692280"/>
            <a:ext cx="6048360" cy="2043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кто-то заболел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очно нас зовет на помощь, —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ери скорей ноль-три...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приедет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2"/>
          <a:stretch/>
        </p:blipFill>
        <p:spPr>
          <a:xfrm>
            <a:off x="811080" y="5059440"/>
            <a:ext cx="8077320" cy="1463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d1.izvestia29.ru/data/files/f6/16/000016f6.jpg"/>
          <p:cNvPicPr/>
          <p:nvPr/>
        </p:nvPicPr>
        <p:blipFill>
          <a:blip r:embed="rId3"/>
          <a:stretch/>
        </p:blipFill>
        <p:spPr>
          <a:xfrm>
            <a:off x="755640" y="260280"/>
            <a:ext cx="6311880" cy="4734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684360" y="476280"/>
            <a:ext cx="7056360" cy="253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имо рощи, мимо яра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чит без дыма, мчит без пар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аровоза сестричка 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то такая? ..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3151080" y="5237280"/>
            <a:ext cx="5480280" cy="133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c.pics.livejournal.com/orlov_ivan_v/60336504/18643/18643_600.jpg"/>
          <p:cNvPicPr/>
          <p:nvPr/>
        </p:nvPicPr>
        <p:blipFill>
          <a:blip r:embed="rId3"/>
          <a:stretch/>
        </p:blipFill>
        <p:spPr>
          <a:xfrm>
            <a:off x="395280" y="189000"/>
            <a:ext cx="7299360" cy="49687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9640" y="260280"/>
            <a:ext cx="5400720" cy="2531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агончики зелены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егут, бегут, бегут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 круглые колесики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се тук, да тук, да ту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5194440" y="4986360"/>
            <a:ext cx="3406680" cy="146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turmir.by/uploads/posts/2013-06/1371198454_poezd-na-adler.jpg"/>
          <p:cNvPicPr/>
          <p:nvPr/>
        </p:nvPicPr>
        <p:blipFill>
          <a:blip r:embed="rId3"/>
          <a:stretch/>
        </p:blipFill>
        <p:spPr>
          <a:xfrm>
            <a:off x="395280" y="189000"/>
            <a:ext cx="6667560" cy="46861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826920" y="549360"/>
            <a:ext cx="5400720" cy="1312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Ходит город – великан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а работу в океан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4694400" y="5059440"/>
            <a:ext cx="4406760" cy="146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files.balancer.ru/forums/attaches/e8/31/e83127f46f0be3d8af02b19ea34e07e7.jpg"/>
          <p:cNvPicPr/>
          <p:nvPr/>
        </p:nvPicPr>
        <p:blipFill>
          <a:blip r:embed="rId3"/>
          <a:stretch/>
        </p:blipFill>
        <p:spPr>
          <a:xfrm>
            <a:off x="755640" y="404640"/>
            <a:ext cx="6775560" cy="3961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68360" y="836640"/>
            <a:ext cx="6335640" cy="253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Я в любое время год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 в любую непогоду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чень быстро в час любо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ровезу вас под землёй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4913280" y="5346720"/>
            <a:ext cx="3962520" cy="111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www.kursiv.kz/upload/iblock/142/1427d018371e2be4fe90e43fa2d9b63a.jpg"/>
          <p:cNvPicPr/>
          <p:nvPr/>
        </p:nvPicPr>
        <p:blipFill>
          <a:blip r:embed="rId3"/>
          <a:stretch/>
        </p:blipFill>
        <p:spPr>
          <a:xfrm>
            <a:off x="468360" y="333360"/>
            <a:ext cx="6778440" cy="45036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539640" y="260280"/>
            <a:ext cx="5400720" cy="1922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лыхает дом. Кошмар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кротит она пожар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5261040"/>
            <a:ext cx="7791480" cy="121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news.mail.ru/prev670w/pic/ee/e8/main10358560_d78b95e2d1d64bc18d7340959ff5fb5c.jpg"/>
          <p:cNvPicPr/>
          <p:nvPr/>
        </p:nvPicPr>
        <p:blipFill>
          <a:blip r:embed="rId3"/>
          <a:stretch/>
        </p:blipFill>
        <p:spPr>
          <a:xfrm>
            <a:off x="539640" y="260280"/>
            <a:ext cx="6381720" cy="478152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39640" y="260280"/>
            <a:ext cx="7272360" cy="1312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амигает синим глазо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 в погоню рвётся сразу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933480" y="5114880"/>
            <a:ext cx="811368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gorodche.unistoreserve.ru/53f3dd61e8d7b60c1fdc31ac.jpeg"/>
          <p:cNvPicPr/>
          <p:nvPr/>
        </p:nvPicPr>
        <p:blipFill>
          <a:blip r:embed="rId3"/>
          <a:stretch/>
        </p:blipFill>
        <p:spPr>
          <a:xfrm>
            <a:off x="539640" y="189000"/>
            <a:ext cx="7345440" cy="4389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68360" y="333360"/>
            <a:ext cx="611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юди ездили по свет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садив себя в карету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 пришел двадцатый век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ел в машину человек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т пошло такое дело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городах затарахтело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Шум моторов, шорох шин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чатся тысячи маш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zdt-magazine.ru/publik/history/2009/images/sad12-09_1.jpg"/>
          <p:cNvPicPr/>
          <p:nvPr/>
        </p:nvPicPr>
        <p:blipFill>
          <a:blip r:embed="rId2"/>
          <a:stretch/>
        </p:blipFill>
        <p:spPr>
          <a:xfrm>
            <a:off x="5364000" y="3645000"/>
            <a:ext cx="3529080" cy="27972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4" descr="http://avto-teh-draiv.ru/uploads/posts/2014-09/thumbs/1410683024_erste_benzin-omnibus_der_welt.jpg"/>
          <p:cNvPicPr/>
          <p:nvPr/>
        </p:nvPicPr>
        <p:blipFill>
          <a:blip r:embed="rId3"/>
          <a:stretch/>
        </p:blipFill>
        <p:spPr>
          <a:xfrm>
            <a:off x="5364000" y="260280"/>
            <a:ext cx="3467160" cy="2395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6" descr="http://www.3dnews.ru/assets/external/illustrations/2009/05/07/123165.jpg"/>
          <p:cNvPicPr/>
          <p:nvPr/>
        </p:nvPicPr>
        <p:blipFill>
          <a:blip r:embed="rId4"/>
          <a:stretch/>
        </p:blipFill>
        <p:spPr>
          <a:xfrm>
            <a:off x="611280" y="3946680"/>
            <a:ext cx="3600360" cy="2700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2" descr=""/>
          <p:cNvPicPr/>
          <p:nvPr/>
        </p:nvPicPr>
        <p:blipFill>
          <a:blip r:embed="rId2"/>
          <a:stretch/>
        </p:blipFill>
        <p:spPr>
          <a:xfrm>
            <a:off x="1023840" y="847800"/>
            <a:ext cx="7381800" cy="5838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1828800" y="-171360"/>
            <a:ext cx="6010200" cy="109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42920" y="1557360"/>
            <a:ext cx="6553440" cy="253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ом на рельсах тут как ту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сех умчит он в пять минут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ы садись и не зевай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тправляется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4552920" y="5486400"/>
            <a:ext cx="3962520" cy="111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93360" y="260280"/>
            <a:ext cx="50742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тгадай загадку. Определи вид трансп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firepic.org/images/2015-03/03/kluxa7vlglx8.jpg"/>
          <p:cNvPicPr/>
          <p:nvPr/>
        </p:nvPicPr>
        <p:blipFill>
          <a:blip r:embed="rId3"/>
          <a:stretch/>
        </p:blipFill>
        <p:spPr>
          <a:xfrm>
            <a:off x="684360" y="907920"/>
            <a:ext cx="7372080" cy="45291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539640" y="260280"/>
            <a:ext cx="5472360" cy="2531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ывают ли у дожди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етыре колеса?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кажи, как называют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акие чудеса?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450720" y="5059440"/>
            <a:ext cx="8437680" cy="146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smolgazeta.ru/uploads/posts/2013-04/1366889253_polivashka.jpg"/>
          <p:cNvPicPr/>
          <p:nvPr/>
        </p:nvPicPr>
        <p:blipFill>
          <a:blip r:embed="rId3"/>
          <a:stretch/>
        </p:blipFill>
        <p:spPr>
          <a:xfrm>
            <a:off x="4994280" y="2276640"/>
            <a:ext cx="3633840" cy="2679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684360" y="549360"/>
            <a:ext cx="5472000" cy="1312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 поедет без бензин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и автобус, ни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4857840" y="5132520"/>
            <a:ext cx="4425840" cy="14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hdcarwallpapers.com/walls/blue_2012_ford_mustang_boss-wide.jpg"/>
          <p:cNvPicPr/>
          <p:nvPr/>
        </p:nvPicPr>
        <p:blipFill>
          <a:blip r:embed="rId3"/>
          <a:stretch/>
        </p:blipFill>
        <p:spPr>
          <a:xfrm>
            <a:off x="611280" y="333360"/>
            <a:ext cx="7345440" cy="4589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116000" y="620640"/>
            <a:ext cx="6048360" cy="2531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Едет он на двух колесах,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 буксует на откосах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И бензина в баке нет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Это мой ..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3681360" y="4986360"/>
            <a:ext cx="5249880" cy="146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bike.web-3.ru/data/html/1504/06_taffy_fs_large.gif"/>
          <p:cNvPicPr/>
          <p:nvPr/>
        </p:nvPicPr>
        <p:blipFill>
          <a:blip r:embed="rId3"/>
          <a:stretch/>
        </p:blipFill>
        <p:spPr>
          <a:xfrm>
            <a:off x="268200" y="333360"/>
            <a:ext cx="7297920" cy="4535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42920" y="765000"/>
            <a:ext cx="5616720" cy="1312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ежит при ветре споро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весел и мотора ..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4011480" y="4986360"/>
            <a:ext cx="479124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dream-wallpaper.com/free-wallpaper/nature-wallpaper/windows-7-themes-landscape-wallpaper/1920x1200/free-wallpaper-7.jpg"/>
          <p:cNvPicPr/>
          <p:nvPr/>
        </p:nvPicPr>
        <p:blipFill>
          <a:blip r:embed="rId3"/>
          <a:stretch/>
        </p:blipFill>
        <p:spPr>
          <a:xfrm>
            <a:off x="611280" y="189000"/>
            <a:ext cx="7294320" cy="45590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684360" y="476280"/>
            <a:ext cx="5400360" cy="2531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есь мир прочита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ообщенье в газетах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то Белка и Стрел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етали в ..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3981600" y="4943520"/>
            <a:ext cx="4492440" cy="134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www.9oboev.ru/pic/201306/1680x1050/9oboev.ru-1734.jpg"/>
          <p:cNvPicPr/>
          <p:nvPr/>
        </p:nvPicPr>
        <p:blipFill>
          <a:blip r:embed="rId3"/>
          <a:stretch/>
        </p:blipFill>
        <p:spPr>
          <a:xfrm>
            <a:off x="539640" y="404640"/>
            <a:ext cx="6912000" cy="4319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3:57:15Z</dcterms:created>
  <dc:creator>Еленга Берюхова</dc:creator>
  <dc:description/>
  <dc:language>en-US</dc:language>
  <cp:lastModifiedBy>Microsoft </cp:lastModifiedBy>
  <dcterms:modified xsi:type="dcterms:W3CDTF">2017-04-21T15:00:33Z</dcterms:modified>
  <cp:revision>6</cp:revision>
  <dc:subject/>
  <dc:title>Слайд 1</dc:title>
</cp:coreProperties>
</file>